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E859-152C-40F6-A842-7ED28AD7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5D29-A550-4FA1-8E58-43811D79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CE52D-6AD1-4074-A804-1D4CD573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106B1-3E0B-4B11-8E15-C6B4095E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20F4E-8A5D-4A51-AD2A-6DE34837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AFF2C-3B95-48F4-943E-58A3174C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9605F-7C72-4E60-9690-54EC1D28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26279-FFFC-4FE0-B2A6-D0A816B1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72A7A-1591-4EF7-9393-4640B3B0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44037-F0BF-4102-9A07-762FF4E9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60082-C003-4E30-98D1-151591C5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E3EF9-27A1-41E4-A067-274C9C51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5569-8CC8-4D34-A74B-900A0A5C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E1252-5C8C-4F24-9806-B0B303A2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FB69A-3543-481C-875E-4A93956D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4B3EF-E2AE-4723-990E-1E8761C2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70F78-597B-4AFD-A3AF-E50BA6F8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B8E48-598C-4382-B5F5-CA19842A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047EB-2C10-44E5-B5FC-FFDBC8ED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BBDD1-0818-4DF0-9F2C-07E3C86D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A3780-D0E8-43AB-AACF-1A6FF384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99BC0-ABC0-4451-81C1-48647E6D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827DF-0886-44F3-9198-6C56C742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2C8-9EB7-4A7C-8B1F-CBBF10AE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A0ED7-1FC3-4FC0-B888-7A918880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46F60-078D-458D-ACF5-0A365A75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B2A71-4C02-4AEE-833D-A86E5C13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BB404-D891-49F0-BBFB-9DA31B83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7C014-BEA2-41EF-BB64-DAE1F781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35380-F412-4051-8D72-7A2FC53F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080E9-DC49-4F0E-8E32-E314624F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6CECA-7C3C-4B80-A89C-2DCC7F3A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4DC57-3AB1-44B3-BB5D-55EA7512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B74C2-7CF3-4900-89AB-91690DCC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5519-A1AD-4940-B769-8A772007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7CFF4-D1E4-4A47-9427-6BB624DA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A4A81-473A-4E30-9E0C-33F195D3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4D746-8BD5-49F7-A390-4FBBDDBE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73F3B-73A3-421F-A1AD-A88B34CB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0C3E5-F32A-448E-9468-1141ED3D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3EC60-2C58-4417-B089-4A115732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676BE-EDD0-4910-ACBC-625FE8E0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25273-86A5-422E-B599-A58A55AB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22A85-418F-4C57-8B0B-4D3EA617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D2E85-E1E1-4679-8453-176DFE21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27A3-F57A-4592-8B5A-B23030A6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146F6-15CA-4A4A-89D4-40A00119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CF8AE-E7DC-48D2-989A-AB07E429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DCB7A-9B81-4964-9A23-2D807EBB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08E8C-A2E3-4DC2-B945-2C948E43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B3865-3183-474F-AAEE-60A5ECEA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6DF0B0-BD7F-457F-870B-DE509328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07147-B3ED-422B-B5E3-65E860CC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68FD46-DB24-40C5-AA64-5A300792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8CBCF-1837-4C01-BDEB-19480545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CD5AA-9300-432D-9AD4-565D9758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2F64-11AA-4410-81F0-8805BD8D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6BC6DD-884F-4CF7-A1FB-EEB5B169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2C007-6F9A-4544-8C0B-68E54298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006B4-68AC-4E9D-97A6-BB32CFF1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58C57-196C-4A99-B3D8-D6F23775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D0C21C-42CB-4D25-A0FB-EF292E8C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F179C9-4AA9-4E14-BA35-09E7BF68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782BEF-3E97-4262-8525-3897F2F6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9CE776-BAF9-46CB-818B-774BA759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67808E-3479-453A-9C11-AFAFC290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0323E1-8BCA-49AD-BD72-BF6FEAE3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09E7-A112-4CC4-9928-6781E492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111C0-5535-4EB4-B475-A6221EAB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B5E514-A676-4C83-87F3-2CAF54AF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6415AA-45CC-444B-9333-82BA2A34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4BBB88-B57C-40E3-B0FB-A562AF3A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46CF5C-8A33-4CC8-9A2D-429B99F3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937A7E-5383-4AC5-8653-6C16E1C2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A6B12A-78AF-4183-BFE9-5FCDD1E7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7E331B-3190-4AA1-BE6B-8B8EF19B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79DF2F-F0C2-4C40-B057-C5F61DD2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588A53-4C2B-4D41-97EF-2C64ED82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2118-6048-4E53-ABD3-038D8485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3EF7A3-0FBD-4D33-A9FF-81F1184C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968659-0F08-4D99-A3C7-11ACDD5A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9E44FE-C81E-4030-A593-B1F61146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DE1A61-3D74-46A9-9606-419DF7F1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6AA986-39F4-4610-AB06-9208D4BD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70B13-E47F-4346-BDB4-02A2259A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35CCB9-C8ED-4C7A-AB98-2B7E539B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9DD827-D5A0-44F4-A905-16195963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0CB4FF-4B72-4189-A91D-63C7B6B8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BBADE2-D2D3-465F-9BF7-F202006E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3D61-FF2A-4F64-BC52-DD535C8E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6A5518-9FC7-4D56-8702-140C81DF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CE8CBD-CF51-46D2-8B9C-7BF2DAE7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32E2F1-7522-45BD-8EC1-6643BC33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F2F14D-DC88-4E95-8296-29462476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202AD7-2FBD-4428-9168-67D99492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B53DBF-4FFB-46A4-9064-C8E9C83B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B98E9E-E789-428F-8E1E-E3A71C5C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444CA2-2D69-433B-9402-EC26635E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FBBD45-2F66-40DD-AE5E-2A61C4B4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1B1BE7-542C-4A5D-954E-A7DE9BAE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0F4D-1394-49EB-9453-1DB6138C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654A91-C452-41F1-9890-450C29CE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D85533-B278-4334-9ED6-301B7401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568065-7EE4-4626-ABD5-A82CA14A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224621-976B-438F-9F22-B0E67DC9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5E6784-4F44-43FA-82FF-14B3B63E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EA386A-5571-448F-8291-0F76040F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2FAEF8-2572-4679-B286-F560009C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533A30-FB5B-40F6-95E5-2A78B46B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D4497A-D399-405A-A998-CE7B2B23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909951-3DAA-4DBD-AD4A-008090C9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D6C-8E53-4F28-9433-BE0828A6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576E-09D1-4E50-BC00-F9A165F5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BEC6CE-27BD-464E-8833-1BE99E15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D22462-396E-4D3A-A60D-0601817B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7455B4-97F7-44D6-BBAC-8CB0E58F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5F9628-57B6-4D00-A3EC-023325B9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DAB1F3-04ED-4BA5-BEF4-D7546F3F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4F360B-505F-4FA6-BCD9-46A508E0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0CE5CC-2593-4EC8-8951-CE34465C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EA1EF8-C33C-452D-9D6D-8CD797EC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10430B-0310-409B-8CA7-3A2BBD08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112095-92BC-431C-A688-580918D0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CA0D-E5D2-4928-BBE5-2D6F1092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648AE3-AED1-4B5C-9222-6F024E71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06321B-2BC5-48CA-AE3A-00C573DE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661527-B485-4F5E-A75B-80758CCB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4F40F3-1470-4F5E-93B1-6F7311B7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110D92-91A8-4D4E-8E65-318D0CDC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626EBE-C142-45E3-B36B-D903678E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A68D1D-7D59-449E-AA77-E79DAE42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85D732-0D54-4BD5-BEBE-B9026D3D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07848C-3D9B-435E-B1B9-60D40EDA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2ECB9E-2E02-4787-82B7-679FBF8E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F295-96B5-47EA-9842-B4E5C076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B206CA-E5C3-4D65-8D09-D930D243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98C751-F682-41FC-902D-92FE578A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2B0CFC-B0C0-4F13-A95A-6237ADF4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46E296-D596-4D77-A63A-BC779B8C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F8F6BE-5D66-4DE9-962D-DC94DD72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C09B53-A9A8-41F7-B1A2-E8A4FB73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48FD96-F604-4B49-BFB0-4C42C012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B4C17C-0CEE-48FA-AE60-7D99AB98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894DF4-9BD3-4135-BBF9-81488523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7E12B1-C20F-4728-8B0D-3A341898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7C28-E53D-4D5A-935E-E3296424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2E1AAB-5610-4A3B-B38C-D1B53BAF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755AF0-758F-46BD-AE57-DE9B2F98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FA84BE-3C8F-487E-B56C-21DC65F2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D0065A-7EE4-48F2-A33E-B5212CF5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4BF6E9-FC76-458D-A44F-B6EEEDD8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5DA69E-6DF8-4D6D-8F8C-A2D6D32B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D7E354-37C7-4256-AD59-2052A06B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1D60F6-E491-429C-8AFC-38B9478F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F765BC-C8DA-4B42-8B7F-FDD0DA93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E72C17-9127-4B29-8591-DB7B05D6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11D0-0E8E-467A-9C33-6F5E128E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A05B74-757D-4E41-A909-9F3EB36E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5895C5-216D-4C22-9FBE-D7740E3E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B63E42-30F0-4557-BC3B-E205BF26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2BB214-39EC-4B80-8392-8A915E88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88E19D-35A3-4FC3-9749-FDEABA11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05401D-FA72-45B3-9FD7-32608BAC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16432F-C856-4F26-8573-1C3255F0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A03127-37BE-4339-A9C0-154BA695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D93B6D-7851-4DE9-96EB-CD072609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5311B8-8170-4407-8D92-641D1031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3DA1A-0224-42DD-9547-18BE03A2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8E8510-66B1-4643-AF37-CC85DC49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C395BA-B1CE-4303-B488-580588DD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992A70-6F03-4CBE-B29C-2252EB2B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0EA34F-20B8-4E6F-AF62-CF7EA2D2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1D5342-57A5-4860-BF26-C63E67FC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B97E95-4E42-4F45-9D72-F13AA72D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F40267-F390-4210-9D77-353D3596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944239-B4EC-4D10-A569-B90E7B2B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36131C-9328-4DDA-96D4-E3A051BD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1314FF-8440-41EA-A76C-36EFAC45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BAA64-4048-4834-B013-6D5DC29F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BE4FB0-253B-4B8B-835C-A714CA76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FBF675-A230-40A5-9858-2415C223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C6726A-BE01-4274-8662-EB17F5F3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418390-C331-4D1A-80B4-ABCFFA44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CCE879-BC7D-4DA6-8EDE-42C083F9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1C9E21-16A0-42C9-A3FC-12F0AE5C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DA6CFF-6CBF-4AFE-B162-2751B4FA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D74EBC-228D-4BEB-BAC5-DB988403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6ACF6E-69D8-49FA-894C-F40A551F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B7D273-4265-4C56-AED5-472A767F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6DE44-5A69-4848-8B28-88452372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A384DA-8FCA-44C6-A4AB-3F2498EF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562BB6-9AF7-4A81-85B0-41924363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7338F4-2CF9-4082-B37F-72356EDC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1A7CDC-D83D-43BB-8606-6932FF5A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6CDE24-11A1-49F6-BFB2-011D8C9C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F88AD1-120C-471F-9F4B-3E678BC5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E3BBD7-2CD9-47B8-B0EB-EF352115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DCF26-03D1-451A-B5B9-45E769A2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B2B02-418D-47CA-84EA-06F6C6FD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8BB4-5D88-495B-936A-A9144B4F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0FDC9-E3AC-4748-909D-4650D86E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95297-51B4-4CF5-BE79-3A1C0C74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B340C-041C-4872-8EA2-95D37075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C97D3-1459-4C4A-9E8B-E788143C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5BB6E-CA3B-4D18-86EE-2F00C8BD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87556-2846-413C-AD21-4AACDC09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CED57-E1FE-4DE1-BC42-76457A8E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73428-1820-4312-B540-1A441C31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EBD0B-1C93-4BC8-9882-5324E32C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E6FCE-B406-4343-87F6-59F269FA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0F2-5C8B-4C99-AB56-3AFCBEED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6C742-0234-4349-8138-7F1E2E8F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CFC41-8FA4-4F9D-B0AA-19CE98F8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D364E-5448-4B97-9851-EC3A8692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BCAA3-F75E-448E-A242-65C33143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A9F54-BC72-49A9-A4A7-46B76811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27F40-167B-48D6-A517-5DF1F899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9AB92-9FF2-48CC-AFA6-F5916DB6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5E611-4687-4438-BED5-303A1887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C02B4-E46B-4E05-90B7-B1E36B52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4AB4E-8D9B-4A94-8CA8-ACDB9A1D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BB88-60F2-425F-BCED-2A3CFD31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EEC97-6549-4EE4-9B0E-059ACF8B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0D831-2763-478E-9A7A-9128127C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894AD-3174-41CC-888A-6023381D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AB916-0857-4AB8-9C8C-2E494E8A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58831-BAA2-423B-8F2C-BEE92B27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225AD-246C-4FE4-A769-7FA477AD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D9DFC-FDD6-4D56-B07E-25880BDF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04C50-5172-4290-8673-431FDC55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F8D37-4040-45A0-BBCB-8723882A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6D4DA-C700-421A-A4D6-43C79B0A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31E7-59C4-4761-A33F-FB80343A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877FB-A5AF-4485-8E4B-852E82AE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D49F7-7065-4553-893A-0DD70E1F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C0074-4AB7-4155-846F-1DB99026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54FAF-598F-4DB1-8D34-B1BBC191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4D773-345A-451F-8D08-CB48F353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53687-B5D3-40CE-BBC2-8F72AC28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9EFE1-F896-4F89-9665-1F0F4D6C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54985-45BE-46EF-89E3-9E9026C5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F2C15-1D24-49F5-AEFA-05890C1A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BDD34-450B-43D8-9C20-B531AAA0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268D-72C1-439C-840B-570E9E27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81067-7476-49A2-B0BD-460F9631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ADB42-7739-44C4-B8BE-3A21039F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FA120-F089-4ED5-B4CD-C634C53D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70765-681D-4ECE-A208-3744A63D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9A94F-8949-4737-BCC8-2D303F35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C9242-AF1A-48E9-84DF-23654539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7423E-FFED-4846-A55E-3653A8BB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40FF0-10DE-43BA-AE72-7D2019BF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796DD-C7B1-4B96-9B06-25AA1F93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0B4E9-379A-48AC-B2FD-DCD77A9A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7CE-0322-47AD-9DAC-7A92018B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242D9-550F-4671-AC65-E640D61E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3C581-57B7-47F9-BA5E-2A599FCC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8B775-196D-42DA-A350-B88D85AE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D26BA-DEE3-488C-A955-C111F248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D665B-9782-4A4C-A0A1-E2B2CD98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ED734-0A2E-4FC9-9EAF-558FE7E3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06005-D5FA-4E8C-B81D-3B2B119B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0A2F4-2DC4-4E7B-99F1-E4CDAE24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71E0D-1A83-4557-B5E6-58D6A10F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C0FC4-52F7-48B4-9421-073FE63F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DE1D-0E46-4F0F-A931-51256207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2D2D6-EB27-4691-B5BA-29E19A96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71D7C-EDC4-43E3-A4F7-4DB36B0E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4A867-EABF-42EE-8BCA-FCB13BC8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A9FB8-D0B6-41F9-B8CB-048FEF46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1C133-2350-49E7-BCA4-4A4B48E8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AC5BF-7E7E-4EED-BA1A-AF74D4A0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BF32E-5B63-4EFC-A248-D993616F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5E98D-CF70-425A-A055-103B6E35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5D1C4-EB0F-4B93-8143-66F06A83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A1D52-7B74-4EC7-AD8E-CDBE9C94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E18F-E9D8-4EE7-8DD9-5164D87EB7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5AF7-A4C5-4AFF-9C26-1F74272318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70AA-FAC9-4C42-B560-D30453A5B7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6739-16CD-4436-853B-5A1C2A0051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E1C4-2319-4B0A-B50C-BACED73ADE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350F-9E52-485D-ADE7-11A1E3D178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29B4-DD96-4263-B11E-012251032F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BA30-E033-4CC6-94B8-87BF2853BD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57A9-EFB4-4EF9-B6A5-A14887FF5C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0A9E-DF88-46B7-B581-9CBCC91745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2AD4-85A4-4B3A-BE28-071BEEED70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EF46-8EAA-4D62-9A72-B27BB82C70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079A-CFFB-4AE9-85F6-F58172A8C9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374E-1408-443A-B510-49F3E27996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DF56-EC3B-49C1-8C4B-CA0B422899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A29B-F460-4239-8BF4-9609006B56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449C-5743-412F-879C-42D56EC5BB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FD02-1A4A-4EBD-891D-3DE0B8EF4E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5BD0-1B56-479D-970D-63E0CFBE09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85E3-7CA9-417D-986B-F0E50B37D2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5520-AD56-4567-ADD7-7CC575D19D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36DE-CFD4-4C48-9083-D717C15B56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040D-890A-4A09-846A-5BC8811DE6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9F16-22DF-435D-BD59-9EA0440C0F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A952-2CD0-49E0-9ED8-FC97EF001A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0203-10E1-472F-982D-AC84DA4496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B78A-436B-41A0-83CE-D9FF8A2823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6145-B5A9-4BC0-B6FE-1DC2D045F4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2FB9-A0E6-4200-B3CA-EA2D76F1AD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E1F9-297C-4B4C-9FAD-8EBC6F0006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6B8A-1013-439C-B29C-DA9C936F22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71D6-0044-442A-AABE-1327177213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F758-6F08-4E9A-8FB7-876BF10771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E4CD-093C-44E2-921B-84C5D3A5EB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6067-A0F4-44ED-9A17-E83F3E592A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6820-6C9F-4EA1-B7A7-1569CA3A14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D9A0-5999-4A1F-8CAE-BF16BA8917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024F-2DCF-4ED2-B77C-26A2E96CE7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0F98-8422-47B0-BD11-5D467F9FE8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7708-F48C-4EE4-A247-D119319B84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2B94-27F2-41A2-B77A-A41B23B4AD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7499-C148-4459-9009-2D3CA46B6D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00120" y="2990880"/>
            <a:ext cx="79437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图片 1" descr=""/>
          <p:cNvPicPr/>
          <p:nvPr/>
        </p:nvPicPr>
        <p:blipFill>
          <a:blip r:embed="rId1"/>
          <a:stretch/>
        </p:blipFill>
        <p:spPr>
          <a:xfrm>
            <a:off x="1028880" y="1943280"/>
            <a:ext cx="7086600" cy="29718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2"/>
          <a:stretch/>
        </p:blipFill>
        <p:spPr>
          <a:xfrm>
            <a:off x="1187280" y="211932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3"/>
          <a:stretch/>
        </p:blipFill>
        <p:spPr>
          <a:xfrm>
            <a:off x="1258920" y="2781360"/>
            <a:ext cx="3744720" cy="447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5"/>
          <a:stretch/>
        </p:blipFill>
        <p:spPr>
          <a:xfrm>
            <a:off x="1042920" y="4249800"/>
            <a:ext cx="6913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图片 1" descr=""/>
          <p:cNvPicPr/>
          <p:nvPr/>
        </p:nvPicPr>
        <p:blipFill>
          <a:blip r:embed="rId1"/>
          <a:stretch/>
        </p:blipFill>
        <p:spPr>
          <a:xfrm>
            <a:off x="95400" y="590400"/>
            <a:ext cx="8953200" cy="61722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1042920" y="4437000"/>
            <a:ext cx="4537080" cy="4478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3"/>
          <a:stretch/>
        </p:blipFill>
        <p:spPr>
          <a:xfrm>
            <a:off x="971640" y="5157720"/>
            <a:ext cx="4537080" cy="4478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4"/>
          <a:stretch/>
        </p:blipFill>
        <p:spPr>
          <a:xfrm>
            <a:off x="971640" y="5877000"/>
            <a:ext cx="453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57040" y="1128600"/>
            <a:ext cx="8629920" cy="460080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6948360" y="3284640"/>
            <a:ext cx="13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4788000" y="414972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136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图片 1" descr=""/>
          <p:cNvPicPr/>
          <p:nvPr/>
        </p:nvPicPr>
        <p:blipFill>
          <a:blip r:embed="rId1"/>
          <a:stretch/>
        </p:blipFill>
        <p:spPr>
          <a:xfrm>
            <a:off x="538200" y="1576440"/>
            <a:ext cx="8067600" cy="37051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2"/>
          <a:stretch/>
        </p:blipFill>
        <p:spPr>
          <a:xfrm>
            <a:off x="6732720" y="276552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3"/>
          <a:stretch/>
        </p:blipFill>
        <p:spPr>
          <a:xfrm>
            <a:off x="4788000" y="357336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4"/>
          <a:stretch/>
        </p:blipFill>
        <p:spPr>
          <a:xfrm>
            <a:off x="3059280" y="4508640"/>
            <a:ext cx="115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223920" y="730080"/>
            <a:ext cx="8696160" cy="60296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2411280" y="25495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4572000" y="256536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4140360" y="3457440"/>
            <a:ext cx="86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5"/>
          <a:stretch/>
        </p:blipFill>
        <p:spPr>
          <a:xfrm>
            <a:off x="5724360" y="34574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6"/>
          <a:stretch/>
        </p:blipFill>
        <p:spPr>
          <a:xfrm>
            <a:off x="1979640" y="433548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7"/>
          <a:stretch/>
        </p:blipFill>
        <p:spPr>
          <a:xfrm>
            <a:off x="4657680" y="435132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8"/>
          <a:stretch/>
        </p:blipFill>
        <p:spPr>
          <a:xfrm>
            <a:off x="7164360" y="433692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9"/>
          <a:stretch/>
        </p:blipFill>
        <p:spPr>
          <a:xfrm>
            <a:off x="4067280" y="522936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10"/>
          <a:stretch/>
        </p:blipFill>
        <p:spPr>
          <a:xfrm>
            <a:off x="5724360" y="524340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11"/>
          <a:stretch/>
        </p:blipFill>
        <p:spPr>
          <a:xfrm>
            <a:off x="7524720" y="522936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12"/>
          <a:stretch/>
        </p:blipFill>
        <p:spPr>
          <a:xfrm>
            <a:off x="4054320" y="612144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13"/>
          <a:stretch/>
        </p:blipFill>
        <p:spPr>
          <a:xfrm>
            <a:off x="5754600" y="613584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14"/>
          <a:stretch/>
        </p:blipFill>
        <p:spPr>
          <a:xfrm>
            <a:off x="7512120" y="6121440"/>
            <a:ext cx="863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190440" y="1562040"/>
            <a:ext cx="8763120" cy="37339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5148360" y="240660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5003640" y="290988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2340000" y="465300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4716360" y="465300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7380360" y="4653000"/>
            <a:ext cx="863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576360" y="1266840"/>
            <a:ext cx="7991280" cy="43243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900000" y="2765520"/>
            <a:ext cx="3672000" cy="447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971640" y="3429000"/>
            <a:ext cx="36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900000" y="4149720"/>
            <a:ext cx="367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900000" y="4883040"/>
            <a:ext cx="648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123840" y="838080"/>
            <a:ext cx="8896320" cy="5181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1692360" y="250668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1908000" y="3227400"/>
            <a:ext cx="93528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1849320" y="3948120"/>
            <a:ext cx="93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1824120" y="2071800"/>
            <a:ext cx="5495760" cy="27144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1908000" y="1989000"/>
            <a:ext cx="295128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1908000" y="2708280"/>
            <a:ext cx="295128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1979640" y="3429000"/>
            <a:ext cx="295128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1763640" y="4149720"/>
            <a:ext cx="590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200160" y="776160"/>
            <a:ext cx="8743680" cy="53056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6948360" y="2637000"/>
            <a:ext cx="13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1547640" y="3298680"/>
            <a:ext cx="17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7237440" y="3948120"/>
            <a:ext cx="136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04:05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